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7.wmf" ContentType="image/x-wmf"/>
  <Override PartName="/ppt/media/image4.wmf" ContentType="image/x-wmf"/>
  <Override PartName="/ppt/media/image10.wmf" ContentType="image/x-wmf"/>
  <Override PartName="/ppt/media/image11.png" ContentType="image/png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585A-2488-48DB-B4E9-0E41701117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1730-E035-4B58-ABB4-45AB73670AD1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1BE4-D9EC-477F-9BE8-E390F15F4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81277-044B-4EAC-A7FC-5CC87E5C4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E5F5F-A80F-423E-A2C5-DD0201136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6E943-97A4-4A2C-80FC-3EE7EDCB7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22A65-623D-4E68-A255-BAFB8D3F6C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1018B-6F24-4052-84B5-D31C74A9BE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49B97-963C-4409-83CE-00A7FDFE49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3B3A2-6ADB-44DE-810F-9A2520E89F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C2AF4-083B-4887-9898-33FFD2110B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BC04E-702A-4FC9-9D18-119EB02B76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0CA56-166B-40D1-9A37-AEE06DC99E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883C5-B00F-4C7E-8734-31591307D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ABC9B-C859-4D10-8471-B17E22DFA3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135BA-E436-4EA5-9413-9AD223B0DB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3AF36-1C77-4FF4-BC83-969D213306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B4C2A-483A-4CC2-8020-4EA204DA2B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55B80-D63B-4835-A19E-1329EDE8FB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73E8F-7AB2-4980-8386-C3502BC5C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8645F-1048-4F40-8469-64F14C2B3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E6D2C-1D5C-471F-8719-4FE0B97F6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0C05E-A668-4740-895F-19B9397ED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DE6C-5FCD-4E7F-BD93-2ED80C529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190C-9173-4519-BD7E-412693920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C451F-C14E-4D3B-A498-7FDCA0932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4F94AC4-8533-4E3C-8451-517DB7110E1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581DD92-B5E7-444B-B09C-42F10FCC009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908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9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51264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1EB4199-834F-424F-9309-0868F6F2911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EEF518E-0E6E-4413-AEE8-547C0F156B4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http://onlinestatbook.com/stat_sim/sampling_dist/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andomisation p-value on cost cent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n-Whitne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ed W = 201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lower part of sampling distribution (1000 bootstra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0" name="Chart Placeholder 5" descr=""/>
          <p:cNvPicPr/>
          <p:nvPr/>
        </p:nvPicPr>
        <p:blipFill>
          <a:blip r:embed="rId1"/>
          <a:stretch/>
        </p:blipFill>
        <p:spPr>
          <a:xfrm>
            <a:off x="4648320" y="1946160"/>
            <a:ext cx="4038480" cy="4032360"/>
          </a:xfrm>
          <a:prstGeom prst="rect">
            <a:avLst/>
          </a:prstGeom>
          <a:ln w="0">
            <a:noFill/>
          </a:ln>
        </p:spPr>
      </p:pic>
      <p:sp>
        <p:nvSpPr>
          <p:cNvPr id="33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24-02-01T12:33:12Z</dcterms:modified>
  <cp:revision>357</cp:revision>
  <dc:subject/>
  <dc:title>Exploratory Data Analysis</dc:title>
</cp:coreProperties>
</file>